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0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2114-6E8D-4773-8E39-6857BBAF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878F-730B-460C-B4C9-2761393C5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CDB-9416-4EF4-BC9E-21DA79D3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946C-B4C0-428C-842B-F04D4E9B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C8A1-476C-4959-BC7A-4096905B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88DB-6864-47C7-BD6F-6495BC55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75A3-43EC-47AB-ABA4-EC58BD99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C031-6D12-4EC7-A0B5-EF2F2644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34F-51F4-42F3-B5D0-A88F2C8C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119F-6600-4918-9C03-EC908BF7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B4C-0D3C-41D7-82BB-ECFE2709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C56-6768-4FE8-8B6A-2278D652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78FF-59E2-42BB-81E8-DD2399F56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hyperlink" Target="http://www.chicagogsb.edu/" TargetMode="External"/><Relationship Id="rId4" Type="http://schemas.openxmlformats.org/officeDocument/2006/relationships/hyperlink" Target="http://www.itstrulyrandom.com/2008/05/04/prisoners-escape-using-nothing-more-than-a-spoon/" TargetMode="External"/><Relationship Id="rId5" Type="http://schemas.openxmlformats.org/officeDocument/2006/relationships/hyperlink" Target="http://www.itstrulyrandom.com/2008/05/04/prisoners-escape-using-nothing-more-than-a-spoon/" TargetMode="External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lawofficer.com/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therealestatecoconut.com/2009/02/13/todays-buyers-are-not-crazy/" TargetMode="External"/><Relationship Id="rId5" Type="http://schemas.openxmlformats.org/officeDocument/2006/relationships/hyperlink" Target="http://therealestatecoconut.com/2009/02/13/todays-buyers-are-not-crazy/" TargetMode="External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hyperlink" Target="http://www.rivernen.ca/" TargetMode="External"/><Relationship Id="rId9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2/Nikolaus_Kopernikus.jp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asszone.com/books/earth_science/terc/content/visualizations/es0408/es0408page01.cfm?chapter_no=04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60" y="304920"/>
            <a:ext cx="90079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thousands of yea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ople on Earth ha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bserved the moo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wondered about it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studied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tolem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lived thousands of years ago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ught that the sun and all the other plan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olved around the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724120" cy="3238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87000" y="6095880"/>
            <a:ext cx="57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mlahanas.de/Greeks/PtolemyAstronom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81680" y="5029200"/>
            <a:ext cx="14288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photographs taken on my fro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ch every 15 minutes of a full moon’s pat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V="1">
            <a:off x="2233440" y="2390400"/>
            <a:ext cx="324000" cy="243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469200" y="2171880"/>
            <a:ext cx="338040" cy="372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517840" y="4296960"/>
            <a:ext cx="609480" cy="6303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11720" y="4362120"/>
            <a:ext cx="1150920" cy="10270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7600" y="449568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nnerself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228600"/>
            <a:ext cx="7391520" cy="38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n the Full Mo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ffect Human Behavio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y John Townley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hundreds of years we have known that it is the predictable cycles of the moon that regulate the ocean’s t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267080" y="4191120"/>
            <a:ext cx="3429000" cy="1771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279760" y="60562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treknatur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39880" y="617220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nnerself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049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52280"/>
            <a:ext cx="5943600" cy="58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URDER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ID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 years of research of 1,887 murders in Florida showed something astonishing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ll moons and murder rates coincided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 the full or the new moon approached, the murder rate rose sharply; it distinctly declined during the first and last quarters of the moon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705720" y="8380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19920" y="3429000"/>
            <a:ext cx="2743200" cy="2438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405120" y="2666880"/>
            <a:ext cx="233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chicagogsb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9240" y="5979960"/>
            <a:ext cx="27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itstrulyrandom.com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2680" y="617220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innerself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28600"/>
            <a:ext cx="4267080" cy="63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ing the full moon there are more crimes such as murder, arson, dangerous driving, and kleptoman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ople do seem to get a little bit crazier about that time of the month,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…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police and hospital workers have known this for a long ti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981680" y="380880"/>
            <a:ext cx="3552840" cy="215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410160" y="275760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lawoffic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5715000" y="3200400"/>
            <a:ext cx="2514600" cy="2505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550120" y="58276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herealestatecoconut.com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2000" y="131760"/>
            <a:ext cx="684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moon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influences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he life of plants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nd animals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s well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0280" y="208080"/>
            <a:ext cx="844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on affects plant grow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flowers bloom during the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think they probably grow fastest du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ll moon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pictures of some of the ones that 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3060720"/>
            <a:ext cx="1371600" cy="1282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819520" y="321948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80880" y="4876920"/>
            <a:ext cx="1136880" cy="1218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905120" y="4876920"/>
            <a:ext cx="1038240" cy="1218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5257800" y="4038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7391520" y="3962520"/>
            <a:ext cx="1295280" cy="1199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3429000" y="4890960"/>
            <a:ext cx="1295280" cy="1204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51920" y="447984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ue passion f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13160" y="4479840"/>
            <a:ext cx="22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ing primr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52520" y="5410080"/>
            <a:ext cx="23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l wave petu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43080" y="525780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v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560" y="617220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nb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62326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onf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623268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lyh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08120" y="6087960"/>
            <a:ext cx="39297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greendaily.com/photo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on-garden-flowers-that-bloom-at-nigh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2286000" cy="1222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362320" y="47242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04920" y="4419720"/>
            <a:ext cx="1415880" cy="17524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495680" y="4495680"/>
            <a:ext cx="1379520" cy="1600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228600" y="2666880"/>
            <a:ext cx="1752480" cy="1314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5410080" y="1828800"/>
            <a:ext cx="2140200" cy="163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6324480" y="3886200"/>
            <a:ext cx="2590920" cy="2565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80" y="3962520"/>
            <a:ext cx="222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fun4children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94360" y="617220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rivernen.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02600" y="6324480"/>
            <a:ext cx="24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parkweb.vic.gov.a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059920" y="5891040"/>
            <a:ext cx="17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whozoo.or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9680" y="6248520"/>
            <a:ext cx="316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.opossumlearningzone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41520" y="4038480"/>
            <a:ext cx="199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st.ap.nic.in/cro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85800" y="3429000"/>
            <a:ext cx="30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filipinasoul.com/tarsi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9560" y="141120"/>
            <a:ext cx="8698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nimals are NOCTURNAL.  This means th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ctive  at night.  We think they really enjoy see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when the moon gives off more l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1905120"/>
            <a:ext cx="31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agre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3915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895480" cy="2709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505320" y="380880"/>
            <a:ext cx="5162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ll, that’s what we’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ed about the mo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want to be 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tronaut and go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oon to learn mo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46640" y="4767120"/>
            <a:ext cx="495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here to see so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l space heroe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19320" y="2370240"/>
            <a:ext cx="6858000" cy="4564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518840" y="577800"/>
            <a:ext cx="602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created GROUP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8915400" cy="59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0"/>
            <a:ext cx="50292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icolaus Copernicus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1473 – 1543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e lived hundred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ears ago and  tau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at the sun was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of the sol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st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File:Nikolaus Koperniku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15080" y="457200"/>
            <a:ext cx="3924000" cy="4724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882320" y="548640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.wikipedia.org/wiki/Coperni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286000" y="4191120"/>
            <a:ext cx="1463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409680"/>
            <a:ext cx="32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alileo Galil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3175200" cy="3898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4640" y="6080040"/>
            <a:ext cx="636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insidesuccessradio.com/images/people/Galilei-Galileo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6360" y="5403960"/>
            <a:ext cx="43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.wikipedia.org/wiki/Galileo_Gali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1280" y="1320840"/>
            <a:ext cx="523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lileo has been call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"the Father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dern Science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s used telescopes t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rm the sun-cen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ory of Copernic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349200"/>
            <a:ext cx="30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564 – 164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rId1"/>
          </p:cNvPr>
          <p:cNvSpPr/>
          <p:nvPr/>
        </p:nvSpPr>
        <p:spPr>
          <a:xfrm>
            <a:off x="3429000" y="4876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000" y="127080"/>
            <a:ext cx="768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 know that the Earth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volves around the sun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below to watch it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revolutio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228600"/>
            <a:ext cx="8245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“little” problem with the previous slide’s anim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zes were not “to scal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give you a better idea of how big the sun i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6320" y="4092480"/>
            <a:ext cx="4876560" cy="2613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51400" y="3865680"/>
            <a:ext cx="36342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one is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et Jupiter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it is 11 ti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ze of Eart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43120" y="333360"/>
            <a:ext cx="5600520" cy="54435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58623" r="0" b="37122"/>
          <a:stretch/>
        </p:blipFill>
        <p:spPr>
          <a:xfrm>
            <a:off x="1689120" y="2955960"/>
            <a:ext cx="5765760" cy="198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495288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is a better representation of the size of the Earth compared to the size of the su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400800" y="1447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9960" y="461880"/>
            <a:ext cx="70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 you understand TIDES 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ybe this will help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35720" y="266688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thehopewellrocks.ca/English/index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3624120"/>
            <a:ext cx="31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y this on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733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37520" y="5029200"/>
            <a:ext cx="403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paulillsley.com/timelapse/index.htm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28600" y="706320"/>
            <a:ext cx="714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get the picture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639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38080" y="2133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236232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harcourtschool.com/activity/moon_phases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3352680"/>
            <a:ext cx="8381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e you observing the moon each 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ve you seen the light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ve you seen it moving across the sk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04920"/>
            <a:ext cx="805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tch this animation of how the mo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olves around the Ear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why the light chan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9:38:05Z</dcterms:created>
  <dc:creator>ECPS</dc:creator>
  <dc:description/>
  <dc:language>en-US</dc:language>
  <cp:lastModifiedBy>ECPS</cp:lastModifiedBy>
  <dcterms:modified xsi:type="dcterms:W3CDTF">2009-04-19T19:00:43Z</dcterms:modified>
  <cp:revision>41</cp:revision>
  <dc:subject/>
  <dc:title>Slide 1</dc:title>
</cp:coreProperties>
</file>